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B78-B3DC-4FC7-9BDB-61FFE063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3D1-F0DF-429F-823A-C6149582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640-63F5-49B7-9586-D334FF88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322-2DE6-4FB9-8CFA-96E08544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16D-00F4-41A4-BE95-0D2D3068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745-2B49-4594-9EDE-1635E61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D7E-B599-41AB-AEA0-AB26325D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9EA-2FC8-4BA5-8B1F-38CA66BB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763-4311-4B4C-839A-8C4C1C9E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844-98B9-4996-A5E0-DADD76C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723-7C42-41A2-B5E9-5126E77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F9A-7738-4894-BAE8-96DFE958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230-B2A8-4CE3-9F66-C024BF163413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07.imageshack.us/img107/2915/hardstylemafialogolj2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21949954qu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1052640"/>
            <a:ext cx="248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H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My name is la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Im 1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ff0000"/>
                </a:solidFill>
                <a:uFillTx/>
                <a:latin typeface="Perpetua"/>
              </a:rPr>
              <a:t>I love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72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love most of all Hardsty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Se billede i fuld størrel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4797360"/>
            <a:ext cx="2951280" cy="129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0065800">
            <a:off x="5580360" y="32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>
                <a:solidFill>
                  <a:srgbClr val="ff0000"/>
                </a:solidFill>
                <a:latin typeface="Eras Bold ITC"/>
              </a:rPr>
              <a:t>I love hardstyle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715400">
            <a:off x="2701440" y="3357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>
                <a:solidFill>
                  <a:srgbClr val="ff0000"/>
                </a:solidFill>
                <a:latin typeface="Arial"/>
              </a:rPr>
              <a:t>I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da-DK" sz="1800" spc="-1" strike="noStrike">
                <a:solidFill>
                  <a:srgbClr val="ff0000"/>
                </a:solidFill>
                <a:latin typeface="Arial"/>
              </a:rPr>
              <a:t>hard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8640"/>
            <a:ext cx="7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995640" y="2997360"/>
            <a:ext cx="1440000" cy="1339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35640" y="1628640"/>
            <a:ext cx="172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0000"/>
                </a:solidFill>
                <a:latin typeface="Baskerville Old Face"/>
              </a:rPr>
              <a:t>And i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0000"/>
                </a:solidFill>
                <a:latin typeface="Baskerville Old Face"/>
              </a:rPr>
              <a:t>To be whit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0000"/>
                </a:solidFill>
                <a:latin typeface="Baskerville Old Face"/>
              </a:rPr>
              <a:t>Freinds :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72360" y="328464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Arial"/>
              </a:rPr>
              <a:t>I go in 7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18:25Z</dcterms:created>
  <dc:creator>02a8</dc:creator>
  <dc:description/>
  <dc:language>en-US</dc:language>
  <cp:lastModifiedBy>02a8</cp:lastModifiedBy>
  <dcterms:modified xsi:type="dcterms:W3CDTF">2010-02-09T09:48:20Z</dcterms:modified>
  <cp:revision>2</cp:revision>
  <dc:subject/>
  <dc:title>Dias nummer 1</dc:title>
</cp:coreProperties>
</file>